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549-75D9-4105-B2E9-7670E199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736-7350-4C9C-8880-8004FEE6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8BD-7736-436F-ACC4-8E81AB75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EAE-AB6D-42F7-BB76-2480A32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A084-8D18-4A9E-AA93-1FD3604C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C68C-9897-466F-9F78-452790C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049F-EC33-4169-9B7A-BE20EE0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5FB5-7207-46A8-94DB-EED95E5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F0EE-F378-4924-8163-0BF02DC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BBDB-838B-45AF-8ED4-56E76A8B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3D87-88D9-4B11-9E41-E0D2369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414-F4DB-4591-BDFF-C97FA86F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4133-39ED-474D-B832-40CD3E9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840D-585C-4EA9-8DFB-EDFFC446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4968-2CC7-4D5C-B6F3-FB31805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B836-979C-434D-8D2D-D85D730D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3C24-D4AA-47A6-ABA3-8EAD48DB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7A7-1D31-4806-9FDB-ECDD071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B6E-84C2-4C26-AB56-70BFDE88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7CC-5565-4A2E-A46D-86743A3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D1D-98D1-434D-8EAA-82A73CE6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6E3-8B45-4C6E-A7C4-C9092BB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FC2-4500-41FE-A046-B19F94F5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6BA-4696-42A6-8D88-072A1A7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9040" y="6342120"/>
            <a:ext cx="3565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3800" y="6342120"/>
            <a:ext cx="2543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7760" y="54000"/>
            <a:ext cx="1982880" cy="65412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3586320" y="452520"/>
            <a:ext cx="1984320" cy="30456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586320" y="507960"/>
            <a:ext cx="1984320" cy="30636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3598920" y="557280"/>
            <a:ext cx="1947960" cy="22860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4869000" y="249120"/>
            <a:ext cx="12204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3605040" y="19080"/>
            <a:ext cx="195120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4191120" y="235080"/>
            <a:ext cx="903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4" name="Freeform 16"/>
            <p:cNvSpPr/>
            <p:nvPr/>
          </p:nvSpPr>
          <p:spPr>
            <a:xfrm>
              <a:off x="63360" y="154080"/>
              <a:ext cx="3435480" cy="423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3360" y="425520"/>
              <a:ext cx="3435480" cy="1825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3360" y="487440"/>
              <a:ext cx="3435480" cy="18720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2440" y="165240"/>
              <a:ext cx="33814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90360" y="550800"/>
              <a:ext cx="3378240" cy="986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20" name="Freeform 22"/>
            <p:cNvSpPr/>
            <p:nvPr/>
          </p:nvSpPr>
          <p:spPr>
            <a:xfrm>
              <a:off x="5646600" y="154080"/>
              <a:ext cx="3435480" cy="45072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46600" y="441360"/>
              <a:ext cx="3435480" cy="195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5646600" y="507960"/>
              <a:ext cx="3435480" cy="19836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667480" y="165240"/>
              <a:ext cx="337968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5673600" y="576360"/>
              <a:ext cx="3378240" cy="1029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5"/>
          <p:cNvSpPr/>
          <p:nvPr/>
        </p:nvSpPr>
        <p:spPr>
          <a:xfrm>
            <a:off x="3024360" y="46080"/>
            <a:ext cx="3144600" cy="1046160"/>
          </a:xfrm>
          <a:prstGeom prst="pie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3022560" y="684360"/>
            <a:ext cx="3146400" cy="48564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8"/>
          <p:cNvSpPr/>
          <p:nvPr/>
        </p:nvSpPr>
        <p:spPr>
          <a:xfrm>
            <a:off x="3022560" y="771480"/>
            <a:ext cx="3146400" cy="490680"/>
          </a:xfrm>
          <a:prstGeom prst="pie">
            <a:avLst/>
          </a:pr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3044880" y="851040"/>
            <a:ext cx="3085920" cy="36504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5057640" y="358920"/>
            <a:ext cx="193680" cy="64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1"/>
          <p:cNvSpPr/>
          <p:nvPr/>
        </p:nvSpPr>
        <p:spPr>
          <a:xfrm>
            <a:off x="3052800" y="4680"/>
            <a:ext cx="3092400" cy="64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2"/>
          <p:cNvSpPr/>
          <p:nvPr/>
        </p:nvSpPr>
        <p:spPr>
          <a:xfrm>
            <a:off x="3981600" y="334800"/>
            <a:ext cx="142560" cy="63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3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4"/>
            <p:cNvSpPr/>
            <p:nvPr/>
          </p:nvSpPr>
          <p:spPr>
            <a:xfrm>
              <a:off x="147600" y="209520"/>
              <a:ext cx="2795760" cy="6778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135000" y="654120"/>
              <a:ext cx="2795400" cy="293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135000" y="755640"/>
              <a:ext cx="2795400" cy="2984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150840" y="239760"/>
              <a:ext cx="275112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155520" y="855720"/>
              <a:ext cx="2751120" cy="15876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9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0"/>
            <p:cNvSpPr/>
            <p:nvPr/>
          </p:nvSpPr>
          <p:spPr>
            <a:xfrm>
              <a:off x="6243480" y="222120"/>
              <a:ext cx="2795760" cy="706680"/>
            </a:xfrm>
            <a:prstGeom prst="pi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6243480" y="674640"/>
              <a:ext cx="2795760" cy="3016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6243480" y="776160"/>
              <a:ext cx="2795760" cy="31284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6259680" y="241200"/>
              <a:ext cx="27511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6264360" y="882720"/>
              <a:ext cx="2751120" cy="163440"/>
            </a:xfrm>
            <a:prstGeom prst="pi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204840" y="6313320"/>
            <a:ext cx="2636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2933280" y="6300720"/>
            <a:ext cx="333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359400" y="6289560"/>
            <a:ext cx="257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Louis And Boris Get Ev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r, The Long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Short of It Al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7" descr=""/>
          <p:cNvPicPr/>
          <p:nvPr/>
        </p:nvPicPr>
        <p:blipFill>
          <a:blip r:embed="rId1"/>
          <a:stretch/>
        </p:blipFill>
        <p:spPr>
          <a:xfrm>
            <a:off x="7238880" y="4572000"/>
            <a:ext cx="905040" cy="135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115720"/>
            <a:ext cx="32004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uis and Boris are best frien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uis is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ttlesmallian;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is 12 cm t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ris is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gmanian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is 600 cm t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4241880" y="1752480"/>
          <a:ext cx="343224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1880" y="1752480"/>
                    <a:ext cx="34322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7162920" y="3432240"/>
          <a:ext cx="907920" cy="129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3432240"/>
                    <a:ext cx="90792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ctors orde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15720"/>
            <a:ext cx="4267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uis is taking Huma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wth Horm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ill be growing 5 c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 year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cation is prescrib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ginning January 1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1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Object 0" descr=""/>
          <p:cNvPicPr/>
          <p:nvPr/>
        </p:nvPicPr>
        <p:blipFill>
          <a:blip r:embed="rId1"/>
          <a:stretch/>
        </p:blipFill>
        <p:spPr>
          <a:xfrm>
            <a:off x="5975280" y="2057400"/>
            <a:ext cx="2025720" cy="380988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1" descr=""/>
          <p:cNvPicPr/>
          <p:nvPr/>
        </p:nvPicPr>
        <p:blipFill>
          <a:blip r:embed="rId2"/>
          <a:stretch/>
        </p:blipFill>
        <p:spPr>
          <a:xfrm flipH="1">
            <a:off x="6400440" y="1298520"/>
            <a:ext cx="53172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th-food Nu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81280" y="21333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ris is tired of bumping hi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d everywhere he goes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looks into organ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ing pills and his height i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ing by 44 cm a year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started taking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cation on Jan. 1, 2011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Object 6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467160" cy="563256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7" descr=""/>
          <p:cNvPicPr/>
          <p:nvPr/>
        </p:nvPicPr>
        <p:blipFill>
          <a:blip r:embed="rId2"/>
          <a:stretch/>
        </p:blipFill>
        <p:spPr>
          <a:xfrm flipH="1">
            <a:off x="2133720" y="5181480"/>
            <a:ext cx="1218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our ques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2115720"/>
            <a:ext cx="71625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 How many years will it take before the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 same height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.How tall will they be when they are th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siz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. When, theoretically, would Bor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ppea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w Your Work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15720"/>
            <a:ext cx="3505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ow all work in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at and organiz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n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lain carefully, i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riting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how yo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rived at yo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swe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4131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you need to hand up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116080"/>
            <a:ext cx="762012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st paragraph--write out the scenario as i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s given to yo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nd paragraph--write out the process, o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sses, you used to solve the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w any table, chart, graph, picture, etc.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helped you solve the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rd paragraph--state the answers to the ques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20:37:22Z</dcterms:created>
  <dc:creator>C.U.S.D.</dc:creator>
  <dc:description/>
  <dc:language>en-US</dc:language>
  <cp:lastModifiedBy>Carol</cp:lastModifiedBy>
  <dcterms:modified xsi:type="dcterms:W3CDTF">2010-09-04T10:05:03Z</dcterms:modified>
  <cp:revision>8</cp:revision>
  <dc:subject/>
  <dc:title>Louis And Boris Get Even</dc:title>
</cp:coreProperties>
</file>